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D6D-2390-453A-829D-1EC4FCC0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ED6-91A7-4CE7-9256-D31976B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6EA-4A5A-4E10-9948-52459099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062-1026-470D-8316-84DC695C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4A7-B6B9-4FD7-910B-2023BAAE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627-2672-4783-BC93-3F1E684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059-5DEB-4B2A-9AD9-25F5EA90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0AB-E179-49F6-8ADF-A075A04D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FC9-9C5C-42AE-A566-AC20CE72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012-4357-4C24-B8B0-D90A67A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F8A-7179-4A69-81FC-095BD66B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1BF-7152-49D8-AC04-258AFFC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AB5E-EF15-485E-A9F9-3556713114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五 手机音频故障的检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起手机听筒无声、音轻、杂音，话筒不送话、声音弱、有回音，振铃异常，振子不振动等故障与手机的听筒、话筒、振铃、振子本身的损坏有密切关系，与音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更是密不可分的；特别是折叠式手机（如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），其听筒、话筒、振铃都是通过排线安装在上翻盖内，如果出现音频故障，与主板上的排线插口以及软连接排线还有直接关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音频电路故障分析与检修如下：受话电路、送话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振铃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振动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摩托罗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DMA V68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手机无振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6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手机，其听筒、振铃、振子实物如图所示。首先取下振铃，用万用表检测其好坏，经检查，振铃正常，再仔细观察排线，发现排线上有个小裂口，如果排线上的裂口增大，显示电路以及听筒也会出问题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手机中，排线是一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合成材料，而且还是一种软连线，是连接主板和上翻盖的关键，排线长时间褶皱，就容易出现裂口，也容易产生听筒无声、无振铃的故障，这是折叠机的常见故障。更换排线，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5120" y="4343400"/>
            <a:ext cx="4419000" cy="2208960"/>
            <a:chOff x="1905120" y="4343400"/>
            <a:chExt cx="4419000" cy="22089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253600" y="4343400"/>
              <a:ext cx="4070520" cy="19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V="1">
              <a:off x="2079360" y="6162840"/>
              <a:ext cx="34848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79360" y="4603320"/>
              <a:ext cx="69768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5120" y="5383080"/>
              <a:ext cx="52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394240" y="5902560"/>
              <a:ext cx="348480" cy="6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摩托罗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DMA V68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手机送话声音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首先取下送话器，用万用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×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欧姆挡检测，有灵敏度指示，然后仔细检查送话器周围的电阻和电容元件，此电阻和电容元件起着低通滤波的作用，如果有丢失的元件，或有虚焊的元件，或者有腐蚀变性的元件，都将改变滤波器的参数，从而影响滤波效果。如图所示，经检查后，发现有腐蚀变性的电阻，更换后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53337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43:04Z</dcterms:modified>
  <cp:revision>6</cp:revision>
  <dc:subject/>
  <dc:title>PowerPoint Presentation</dc:title>
</cp:coreProperties>
</file>